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BB0-B4EB-442D-A5B0-8A3CFC6F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489-A075-4316-8CFB-62D41139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A1B-2C07-43F6-8C71-DF6DA8EC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690-4284-403C-BB10-616085FA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051-2E13-43F0-85F4-B961B281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0FD-5E8D-45A4-BA08-26B2DC7D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687-9B69-4FCC-BA0E-C331348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CE3-88A4-488D-85EF-4B0476AE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BC2-4D7E-46B2-B833-327F776D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074-562F-4C29-9E45-AB8FA5C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226-B1B5-4E3A-A62C-284CCDA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1A4-DBC2-46A2-AF20-DEEA8366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6F45-7931-4E2B-A2FC-1407BBBB9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30320" y="1193760"/>
            <a:ext cx="5981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 на делимость чисел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222640" y="2590920"/>
            <a:ext cx="52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рибкина Ирина Юрьевна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0 класс МОУ Лицей №36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уководитель: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язанова Елена Десановна, учитель высшей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валификационной категории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809880" y="6095880"/>
            <a:ext cx="201636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. Нижний Новгород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010 год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3564000" y="404640"/>
            <a:ext cx="234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одержание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685800" y="1371600"/>
            <a:ext cx="1362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Введение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685800" y="1752480"/>
            <a:ext cx="3933720" cy="34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§1. Делимость целых чисел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762120" y="2514600"/>
            <a:ext cx="4981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п.2 Некоторые свойства делимости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762120" y="2895480"/>
            <a:ext cx="4552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п.3 Сравнение чисел по модулю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762120" y="2133720"/>
            <a:ext cx="5715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п.1 Теория делимости в школьном курсе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722160" y="4770360"/>
            <a:ext cx="42562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Список используемой литературы</a:t>
            </a:r>
            <a:endParaRPr b="0" i="1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685800" y="3276720"/>
            <a:ext cx="7705800" cy="34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§2. Решение задач по теме «Делимость целых чисел»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762120" y="3657600"/>
            <a:ext cx="2933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 </a:t>
            </a:r>
            <a:r>
              <a:rPr b="0" i="1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п.1 Решение задач ЕГЭ</a:t>
            </a:r>
            <a:endParaRPr b="0" i="1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798480" y="4008600"/>
            <a:ext cx="539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п.2 Классификация способов решения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54" name="WordArt 14"/>
          <p:cNvSpPr txBox="1"/>
          <p:nvPr/>
        </p:nvSpPr>
        <p:spPr>
          <a:xfrm>
            <a:off x="722160" y="4389480"/>
            <a:ext cx="171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Заключение</a:t>
            </a:r>
            <a:endParaRPr b="0" i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3592440" y="380880"/>
            <a:ext cx="207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ведение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2680" y="1031760"/>
            <a:ext cx="8086680" cy="25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данной работы состоит в исследовании типов задач ЕГЭ по теме «Делимость целых чисел», их классификации и выделении методов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литературу по данн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свойства и признаки, применяемые при решении этих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идеи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1676520" y="380880"/>
            <a:ext cx="5952960" cy="524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§1. Делимость целых чисел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16000" y="927000"/>
            <a:ext cx="862308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о 1. Количество натуральных делителей чис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τ(n)=(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∙ … ∙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казатель степени простого множителя в каноническом разложении чис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 … 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0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≤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,2,…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оказатель 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принимать значения 0, 1, 2,…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всего 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 значение. Показатель 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принимать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каждое из 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 значение, которое может принимать 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жет сочетаться с любым из 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 возможных значений числа 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т.д., то общее число натуральных делителей числа n находится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τ(n)=(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∙ … ∙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16000" y="4186080"/>
            <a:ext cx="86360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о 2. Пусть n имеет каноническое разложение, тогда сумма натуральных делителей числа n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σ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(1+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…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(1+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…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∙…∙(1+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…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+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(1+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∙…∙(1+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 … 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1854360" y="203040"/>
            <a:ext cx="5991120" cy="1047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§2. Решение задач по теме 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«Делимость целых чисел»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2600" y="25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254160" y="1371600"/>
            <a:ext cx="8635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зада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я в целых чис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на отыскание дроби или ее эле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, решаемые с использованием канонического разложения числа на простые множит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, решаемые с использованием свойств дел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на про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0"/>
          <p:cNvSpPr/>
          <p:nvPr/>
        </p:nvSpPr>
        <p:spPr>
          <a:xfrm>
            <a:off x="673200" y="3073320"/>
            <a:ext cx="58928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b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|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 – единственный корень. Значит, a=2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2, b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660240" y="3060720"/>
            <a:ext cx="58928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b=    , а=1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 – уравнение не имеет натуральных кор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728640" y="1486080"/>
                <a:ext cx="1935360" cy="21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6"/>
              <p:cNvSpPr txBox="1"/>
              <p:nvPr/>
            </p:nvSpPr>
            <p:spPr>
              <a:xfrm>
                <a:off x="1257480" y="3378240"/>
                <a:ext cx="3110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2"/>
              <p:cNvSpPr txBox="1"/>
              <p:nvPr/>
            </p:nvSpPr>
            <p:spPr>
              <a:xfrm>
                <a:off x="1015920" y="3708360"/>
                <a:ext cx="3812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3"/>
              <p:cNvSpPr txBox="1"/>
              <p:nvPr/>
            </p:nvSpPr>
            <p:spPr>
              <a:xfrm>
                <a:off x="1255680" y="3375000"/>
                <a:ext cx="3110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7"/>
              <p:cNvSpPr txBox="1"/>
              <p:nvPr/>
            </p:nvSpPr>
            <p:spPr>
              <a:xfrm>
                <a:off x="1270080" y="3086280"/>
                <a:ext cx="2538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5"/>
              <p:cNvSpPr txBox="1"/>
              <p:nvPr/>
            </p:nvSpPr>
            <p:spPr>
              <a:xfrm>
                <a:off x="1270080" y="3060720"/>
                <a:ext cx="380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1066680" y="3733920"/>
                <a:ext cx="2541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Rectangle 6"/>
          <p:cNvSpPr/>
          <p:nvPr/>
        </p:nvSpPr>
        <p:spPr>
          <a:xfrm>
            <a:off x="317520" y="469800"/>
            <a:ext cx="8648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аны два числа a и b. Они взаимно простые. Известно, что                  . Найти a и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7632720" y="317520"/>
                <a:ext cx="1143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/>
                          <m: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1"/>
              <p:cNvSpPr txBox="1"/>
              <p:nvPr/>
            </p:nvSpPr>
            <p:spPr>
              <a:xfrm>
                <a:off x="695160" y="1422360"/>
                <a:ext cx="158148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21"/>
              <p:cNvSpPr txBox="1"/>
              <p:nvPr/>
            </p:nvSpPr>
            <p:spPr>
              <a:xfrm>
                <a:off x="1092240" y="4038480"/>
                <a:ext cx="1458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25"/>
              <p:cNvSpPr txBox="1"/>
              <p:nvPr/>
            </p:nvSpPr>
            <p:spPr>
              <a:xfrm>
                <a:off x="1844640" y="3094200"/>
                <a:ext cx="27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7"/>
              <p:cNvSpPr txBox="1"/>
              <p:nvPr/>
            </p:nvSpPr>
            <p:spPr>
              <a:xfrm>
                <a:off x="1376280" y="373068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8"/>
              <p:cNvSpPr txBox="1"/>
              <p:nvPr/>
            </p:nvSpPr>
            <p:spPr>
              <a:xfrm>
                <a:off x="2023920" y="376884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393480"/>
            <a:ext cx="864900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У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вно 6 натуральных делителей. Сумма этих делителей равна 3500. Найди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делителей равно 6, значит, τ(n)=2∙3 или τ(n)=6∙1=6, тогда 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и 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 или 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σ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                     =(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)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σ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3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ϵ{3, 13, 19, 139, 349, 499, 3499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=k, где соответственно kϵ{1, 7, 10, 25, 175, 250, 875}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 является полным квадратом. Это возможно при k=7. Значит, 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99. Тогда n=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n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σ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n=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"/>
          <p:cNvPicPr/>
          <p:nvPr/>
        </p:nvPicPr>
        <p:blipFill>
          <a:blip r:embed="rId1"/>
          <a:stretch/>
        </p:blipFill>
        <p:spPr>
          <a:xfrm>
            <a:off x="1028880" y="2324160"/>
            <a:ext cx="1247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95360" y="368280"/>
            <a:ext cx="844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 каком наименьшем натураль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2009! не делится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2009!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!=1∙2∙3∙…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∙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…∙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…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…∙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00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ибольше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наименьше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довлетворяющее условию, равно 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2222640" y="1231920"/>
            <a:ext cx="8712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473120" y="419040"/>
            <a:ext cx="6715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7c5f7"/>
                </a:solidFill>
                <a:latin typeface="Arial"/>
              </a:rPr>
              <a:t>Классификация способов решения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a7c5f7"/>
              </a:solidFill>
              <a:latin typeface="Arial"/>
              <a:ea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649000" cy="18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е решения задачи к решению уравнения в целых и натуральных чис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канонического разложения на простые множ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ение на множители с целью получения произведения двух или трех последовательны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3:18:56Z</dcterms:created>
  <dc:creator>Иринка</dc:creator>
  <dc:description/>
  <dc:language>en-US</dc:language>
  <cp:lastModifiedBy>Ириска</cp:lastModifiedBy>
  <dcterms:modified xsi:type="dcterms:W3CDTF">2010-09-03T04:08:1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